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588-7B48-4DA8-963A-FB170D54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9DB-C1E1-4D11-9F34-AC33BA7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411-DF40-4440-8A51-E1AB1780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706-64EF-49C2-9947-CC52F878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D599-22D8-482E-91D3-9072B629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986D-C523-478D-AB0E-36068D8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745D-5EB5-4231-A42B-1EA43C4A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EC2-51DD-40E0-8C3A-990EFD3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6E9-0210-4854-B26B-5A3AACD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7F75-5514-41FD-9141-E9E5C869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A411-3952-4188-82E0-17E0A73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1B4-F5C6-46CD-AA8F-6D8FFB6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6F6-EBB3-47D4-815C-200A71B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5974-FAE3-4C60-B38E-9C145F9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D60-1418-4916-8F44-5D16BB6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590-4619-4CA0-8F45-EDF2DCF6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1E5-54FA-4C5D-AE39-20214797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598A-347A-4ED5-A020-CC8F68DF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7FDB-BDBC-48E5-A216-1C674C86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5984-912C-46F1-8343-A7363587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DC79-13BB-4951-BBC2-C64311D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B15C-111D-4798-9577-E476805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5C1-5E5C-4CFB-916C-20E062DE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5C5F-466F-4FE6-A917-D0844568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8A5E-87FC-49AE-97F8-2AAD1CE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E191-5477-4128-8712-BAE074D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E4D8-FBA1-49F6-B495-BAFF4D0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70FC-F762-4A7A-9F48-604DB580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E0D5-411B-4004-A571-6B3896CE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0C0C-D259-4ADC-AF16-41612A04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208C-71D7-444F-B559-6DA8B266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BDD9-7ABB-4DE0-A3E6-50863CD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9CB6-DD5A-437F-B599-772071AE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612-2FDB-4553-889F-57CC91A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6553-2923-43DC-8E4E-AB89235F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10F6-2B6E-4F5D-83FB-4BAB094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D66C-BC9B-44F0-84E7-BC7DCE2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B4B0-0577-4760-9AB0-45158E9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4FA7-9AA2-4111-8ED2-6D72B9C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F0D2D-B509-4970-BABE-5B86F9B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C4A8-F450-4B73-B099-3FA4E4A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535B4-7156-416C-812C-7EDCE60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C945-91AE-45DC-96BE-3B7AE1A3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637A-0852-4B80-9A2B-0AB92A90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07B-DF88-478A-B708-155C0AC5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C60B-62E0-4D69-B3EB-A1556B44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38D3-415A-4B00-89B8-104EB7B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F74C-BB13-4AB0-A494-A374B544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48760-0F8F-441D-B99D-9AB8A3D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E605-D9FC-4200-82BE-0C74C3C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EEAE-FD2C-4EE3-AE74-92FC64D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E7D1-F910-4832-ADCA-7A9FFB4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8E7C-EF7E-4ED9-BE19-13B5425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7196-E3E0-4844-88B6-DB22DA1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2B348-826E-4FA1-AC00-6ABE6FE6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951-6F2F-4FB0-BF9E-0692567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821B-8069-4832-9226-D0F65BBB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37561-E64B-405E-BEC6-55CA53FF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1E8D-FBDE-48BF-82AA-B216DC2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F839-4269-44F7-8EBD-A824CE27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4C23-1D18-4DCE-A15A-3CF82A9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0B70-7519-4B8C-A1CC-608620C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6A648-717D-4B74-BB35-0984B26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B11A-CB49-4235-9929-0A2735B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7DB0-912E-4556-83D6-FBB0B3D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FDB4-8226-43E1-B6BD-D826549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A3E-2A1C-476E-9D59-8032970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0108-BFB0-4A96-A0AB-4AA65BA7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AA07-4514-4308-81E5-E9E1F4AE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DD304-AFB8-49D3-BBC1-FE6BFB7A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7DB3-538D-4114-80B2-4FBE3D55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D255A-7BD2-493B-976B-C479FF7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DE83-7FB8-49D2-A39D-1D3C75D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ADFE-A274-46FC-BBF0-9AB024F7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15A0-08B9-4F5E-B5B7-2674AE5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4EF9A-2854-4072-BC98-5458414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433D-1ACA-4F44-B523-BE66CC0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835-0E58-407E-BC21-EA220D6D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EFCC3-44C1-467B-8FAC-0DF1599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D8A3-45DA-422B-9251-8068A03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7DEB-CE99-4024-A94E-8059AA7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BC39-2DAD-4243-85E8-6C6038AE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5693-AC74-4BCC-9858-4F12FA1F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172-F5B1-4843-AE81-5ACA577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8043D-7189-416B-B875-308D03D415B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76CBE-173A-42C3-B9A1-18AC5480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652A4-2A9F-44EE-8EFB-F32ABA39F2E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C39D1-9E24-4894-9CFA-BEABF98D3F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9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23621-9793-44A0-971B-DF1C6F6CC5D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65664-530F-423A-A00B-6358F3ED8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E44E9-6BF7-427A-A8FF-F0922DADFEC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2D814-7883-4DB8-91FC-E40F2A975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C0F7E-D1E9-4DEF-8774-AF53A8F660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4C9ED-C061-4140-8E7C-19FC20F3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56BC4-82AB-4409-AB65-BC4E49D3139A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B8C47-8F45-404C-8BAD-15111B37042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2DEF5-AAAC-4B05-B2E4-BF271A4F1AE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0EABB-0F4F-4066-9F3B-598BED5F332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#/watch?V=CQ0M4HvZSVU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com/imgres?imgurl=http://www.orau.org/ptp/collection/consumer%20products/fertilizer.jpg&amp;imgrefurl=http://www.orau.org/ptp/collection/consumer%20products/fertilizer.htm&amp;usg=__Ab3BMFvpcfxcLWLc8yBVXm0TXC0=&amp;h=571&amp;w=400&amp;sz=60&amp;hl=en&amp;start=3&amp;zoom=1&amp;um=1&amp;itbs=1&amp;tbnid=Y-Lllr88x8P_iM:&amp;tbnh=134&amp;tbnw=94&amp;prev=/images?q=fertilizer&amp;um=1&amp;hl=en&amp;safe=active&amp;rlz=1R2ADRA_enUS377&amp;tbs=isch:1&amp;ei=hbFSTcXZDMTcgQffrtmbCA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com/imgres?imgurl=http://www.minnehahacreek.org/images/fertilizer_002.jpg&amp;imgrefurl=http://www.minnehahacreek.org/ManagingWateronYourProperty.php&amp;usg=__s4nYl3j9FdWRLIWCnvSh2PGT7j0=&amp;h=700&amp;w=535&amp;sz=49&amp;hl=en&amp;start=12&amp;zoom=1&amp;um=1&amp;itbs=1&amp;tbnid=qp_uuMkAplAqdM:&amp;tbnh=140&amp;tbnw=107&amp;prev=/images?q=fertilizer&amp;um=1&amp;hl=en&amp;safe=active&amp;rlz=1R2ADRA_enUS377&amp;tbs=isch:1&amp;ei=hbFSTcXZDMTcgQffrtmbCA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Agricultur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y: Aleela Bov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nnis Mceach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Works Cited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no-till-credit.ca/no-till_farming.ph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blurtit.com/q8008231.htm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netstate.com/economy/pa_economy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youtube.com/watch?v=VbjX3xbiFa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ennsylvania</a:t>
            </a:r>
            <a:r>
              <a:rPr b="0" lang="ja-JP" sz="4200" spc="-1" strike="noStrike">
                <a:solidFill>
                  <a:srgbClr val="ff5c9c"/>
                </a:solidFill>
                <a:latin typeface="Century Gothic"/>
              </a:rPr>
              <a:t>’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s Main Crop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egetab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ean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bb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shroom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otato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rui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pple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p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omato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each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6" descr="potatoes112"/>
          <p:cNvPicPr/>
          <p:nvPr/>
        </p:nvPicPr>
        <p:blipFill>
          <a:blip r:embed="rId1"/>
          <a:stretch/>
        </p:blipFill>
        <p:spPr>
          <a:xfrm>
            <a:off x="3809880" y="20574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eaches"/>
          <p:cNvPicPr/>
          <p:nvPr/>
        </p:nvPicPr>
        <p:blipFill>
          <a:blip r:embed="rId2"/>
          <a:stretch/>
        </p:blipFill>
        <p:spPr>
          <a:xfrm>
            <a:off x="6553080" y="2057400"/>
            <a:ext cx="2590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 till farming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3000" y="11430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y of growing crops without plowing/turning soil before plan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ents CO2 un the soil from being releas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aves organic mat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ents eros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youtube.com/#/watch?V=CQ0M4HvZSV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5" descr="conservation-agriculture-2"/>
          <p:cNvPicPr/>
          <p:nvPr/>
        </p:nvPicPr>
        <p:blipFill>
          <a:blip r:embed="rId2"/>
          <a:stretch/>
        </p:blipFill>
        <p:spPr>
          <a:xfrm>
            <a:off x="4572000" y="21337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raditional/Organic farming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440"/>
            <a:ext cx="403848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es not use any fertilizers or pestici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s the emission of greenhouse gases such as; Methane, NO2, and CFC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rows many types of crops to replenish the soil with fertilizer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6" descr="pesticide+free+sign"/>
          <p:cNvPicPr/>
          <p:nvPr/>
        </p:nvPicPr>
        <p:blipFill>
          <a:blip r:embed="rId1"/>
          <a:stretch/>
        </p:blipFill>
        <p:spPr>
          <a:xfrm>
            <a:off x="457200" y="4222800"/>
            <a:ext cx="4038480" cy="2635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AA000307"/>
          <p:cNvPicPr/>
          <p:nvPr/>
        </p:nvPicPr>
        <p:blipFill>
          <a:blip r:embed="rId2"/>
          <a:stretch/>
        </p:blipFill>
        <p:spPr>
          <a:xfrm>
            <a:off x="4495680" y="422280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sustainable-nutrient-management-crops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316" name="Title 1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04920" y="205704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the practice of using fertilizers wisely for optimum economic benefit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rmers also want to minimize impact on the environ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045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stly phosphates and nitrates chemic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t foods, which may be either liquid or granular, used to make soil more ferti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improves plant growth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ertilizer to make lawns, crops and garden grow stronger and fas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ANd9GcSTuuXZmiJjhfhcOjxoNPMzW7ynf1S8xj8hIRqMOybKtww0kCFf2FdKU3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5257800"/>
            <a:ext cx="2057400" cy="1552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ANd9GcRAdymPtpD4j3vC6XZ8akcvi-qLbhVfcAgs0M3N3jt8xAnAZtvfVtkr7c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4495680"/>
            <a:ext cx="1828800" cy="2314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ANd9GcTQrujQzTfeeu8LTnVpvrByaPlxyyuq4rMFG40U4j5ceSbZn2Gdb7AhxmQ"/>
          <p:cNvPicPr/>
          <p:nvPr/>
        </p:nvPicPr>
        <p:blipFill>
          <a:blip r:embed="rId6"/>
          <a:stretch/>
        </p:blipFill>
        <p:spPr>
          <a:xfrm>
            <a:off x="3809880" y="5257800"/>
            <a:ext cx="2210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835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2286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you use too much of the fertilizer can leak into the groundwater and surface water through run off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igh nitrates have been identified in some groundwater supplies in Alabam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ive phosphates in lakes and streams could create water quality proble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6934320" y="47242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0" y="5029200"/>
            <a:ext cx="347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hane is a greenhouse g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reen house gasses contributes to the greenhouse effect by absorbing infrared radi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</a:t>
            </a:r>
            <a:r>
              <a:rPr b="0" lang="ja-JP" sz="30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 produced from decomposing plant material and poop (and trash too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s a technology that captures methane from animal feces and can be used to produce electricit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0" y="1882800"/>
            <a:ext cx="9144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2:30:36Z</dcterms:created>
  <dc:creator>PA Department of Education Classrooms for the Future</dc:creator>
  <dc:description/>
  <dc:language>en-US</dc:language>
  <cp:lastModifiedBy>dhakim</cp:lastModifiedBy>
  <dcterms:modified xsi:type="dcterms:W3CDTF">2012-03-30T16:41:31Z</dcterms:modified>
  <cp:revision>13</cp:revision>
  <dc:subject/>
  <dc:title>Slide 1</dc:title>
</cp:coreProperties>
</file>